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260-2832-4970-97F0-F530ABC90D1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F91-3E0B-46E9-B8D1-F3930DFD87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ADD-E8ED-4B0F-8169-9C490A37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00C-2F06-4864-9012-C37B9CB8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E6A-4ED2-4F0F-BB7E-9B2616E9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9FD-72F3-4CDB-AE56-D5E6B131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6C5-F244-41FA-9CD5-F93297F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6F9-E38C-4F54-BFA8-C63A6715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C42-787E-45AA-83D9-B19F68C7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FE6-71F8-4670-9EC2-F0814864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95A-8A3F-411C-9FBB-CAE318F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64D-8D0F-44E0-B9A4-8195015C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C1C-5803-44C2-922E-89F52D8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F6B-527D-49E3-9AEB-11394E6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5D4-7D0E-4DBD-B9C2-F0DE77C00E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2 CI4301- Uso de suelos y EOD 2001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71600" y="533160"/>
            <a:ext cx="7499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451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Utilizar en forma práctica los conceptos de uso de suelo revisados en cla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451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visar y comparar los resultados de las encuestas origen destino de viajes y el uso de suelo de Santiago de los años 1991 y 200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180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601"/>
              </a:spcBef>
              <a:spcAft>
                <a:spcPts val="601"/>
              </a:spcAft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forme Final EOD 2001 de Santiag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667440" indent="-155160">
              <a:spcBef>
                <a:spcPts val="601"/>
              </a:spcBef>
              <a:spcAft>
                <a:spcPts val="601"/>
              </a:spcAft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formación de uso de suelo, hogares, vehículos, habitantes y viajes generados por comuna, años 1991 y 2001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89880" indent="-18072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0720" indent="-180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ija 10 comunas de Santiago y busque en 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</a:rPr>
              <a:t>www.portalinmobiliario.com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el precio de arriendo de un departamento de aproximadamente 8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 Discuta sobre la distribución de precios teniendo en cuenta los conceptos de uso de suelo vistos en cla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 acuerdo a su experiencia y a los datos entregados, ¿cómo ha variado el uso de suelo entre los años 1990 y 2001? ¿Qué fenómenos pueden explicar las variacion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Cómo es la distribución horaria de los viajes en un día laboral normal? Come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dentifique períodos relativamente homogéneos en cuanto a volumen de viajes, en particular señale el o los horarios que usted asociaría a períodos pun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nalice la evolución del número de hogares y la tasa de motorización a nivel comunal entre los años 1991 y 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nalice evolución de la generación de viajes entre el año 1991 y el 2001 a nivel comu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dentifique alguna relación entre variaciones de uso de suelo o variables socioeconómicas y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_apellido3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08-25T17:54:15Z</dcterms:modified>
  <cp:revision>39</cp:revision>
  <dc:subject/>
  <dc:title>Taller I CI43A</dc:title>
</cp:coreProperties>
</file>